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DA2-1C9A-419B-9BCB-1B7FF5C3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E63-A4C6-4819-B2C8-A4113E41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B75C-A45C-44F5-A011-49D8DF31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EFD-E7D8-401F-92AD-408562AC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9F1B-D916-42F1-9A7F-8F6BF759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FFD-C827-40AF-A825-154F13A3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039-5E5B-4DC8-9BDF-1ED04B38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5D0-46AF-49B1-AC6A-4837696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3CD-8F15-4563-A2D1-F00B28FF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989-B815-4D64-BB0B-476A2356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4D2-8711-482E-9B50-649369E3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2FB-6E07-445B-858C-EF49A3A8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AE1-B53B-4439-9B3A-CD85CC923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124000" y="98100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解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251080" y="110808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78160" y="123516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5240" y="136224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浪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31960" y="148896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竹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759040" y="1616040"/>
            <a:ext cx="446580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竿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886120" y="1743120"/>
            <a:ext cx="4465440" cy="5214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斜 </a:t>
            </a:r>
            <a:endParaRPr b="0" lang="en-US" sz="3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32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华文楷体"/>
                <a:ea typeface="华文楷体"/>
              </a:rPr>
              <a:t>xiá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638520" y="2351160"/>
            <a:ext cx="1965240" cy="21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0066"/>
                </a:solidFill>
                <a:effectLst>
                  <a:outerShdw dist="38160" dir="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斜</a:t>
            </a:r>
            <a:endParaRPr b="0" lang="en-US" sz="6000" spc="-1" strike="noStrike">
              <a:ln w="0">
                <a:noFill/>
              </a:ln>
              <a:solidFill>
                <a:srgbClr val="ff0066"/>
              </a:solidFill>
              <a:effectLst>
                <a:outerShdw dist="38160" dir="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908000" y="692280"/>
            <a:ext cx="547380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 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解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落三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二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a.hiphotos.baidu.com/baike/c%3DbaikeA1%2C10%2C95/sign=332f8adf36d12f2eda05f93126a9b023/10dfa9ec8a1363272a13293b918fa0ec09fa513d2697e7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21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注释译文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秋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农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月，指晚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斜：倾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390"/>
          <p:cNvSpPr/>
          <p:nvPr/>
        </p:nvSpPr>
        <p:spPr>
          <a:xfrm>
            <a:off x="826920" y="4724280"/>
            <a:ext cx="54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1670867_161133069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87280" y="4365720"/>
            <a:ext cx="77058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使树叶在晚秋时节掉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54b4d039c74cd0a255e723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14240" y="1285920"/>
            <a:ext cx="640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能在早春二月时使百花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843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831610651969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28800" y="1143000"/>
            <a:ext cx="66722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吹过江面时会掀起千尺巨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picapi.ooopic.com/01/23/73/07b1OOOPIC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250920" y="549360"/>
            <a:ext cx="84643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  <a:ea typeface="方正隶书简体"/>
              </a:rPr>
              <a:t>吹入竹林时能使成千上万的竹子倾斜倒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051008korea10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571760" y="0"/>
            <a:ext cx="5624280" cy="56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6000" spc="-1" strike="noStrike">
                <a:solidFill>
                  <a:srgbClr val="008000"/>
                </a:solidFill>
                <a:latin typeface="Arial"/>
                <a:ea typeface="楷体_GB2312"/>
              </a:rPr>
              <a:t>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0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398320" y="2428920"/>
            <a:ext cx="47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解落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三秋叶，能开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二月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42960" y="34290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过江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千尺浪，入竹</a:t>
            </a:r>
            <a:r>
              <a:rPr b="1" lang="en-US" sz="4800" spc="-1" strike="noStrike">
                <a:solidFill>
                  <a:srgbClr val="0000ff"/>
                </a:solidFill>
                <a:latin typeface="楷体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万竿斜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357120" y="4857840"/>
            <a:ext cx="8572680" cy="52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首诗让人看到了风的力量，能使晚秋的树叶脱落，能催开早春二月的鲜花。它经过江河时能掀起千尺巨浪，刮进竹林时可把万棵翠竹吹得歪歪斜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de1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qbaobei.com/Uploads/Editor/2015-12-24/567ba9d91c8b4.jpg"/>
          <p:cNvPicPr/>
          <p:nvPr/>
        </p:nvPicPr>
        <p:blipFill>
          <a:blip r:embed="rId1"/>
          <a:stretch/>
        </p:blipFill>
        <p:spPr>
          <a:xfrm>
            <a:off x="34920" y="1909800"/>
            <a:ext cx="9036000" cy="49417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>
            <a:off x="2700360" y="343080"/>
            <a:ext cx="6264360" cy="642600"/>
          </a:xfrm>
          <a:prstGeom prst="rect">
            <a:avLst/>
          </a:prstGeom>
          <a:gradFill rotWithShape="0">
            <a:gsLst>
              <a:gs pos="0">
                <a:srgbClr val="fcfdfe"/>
              </a:gs>
              <a:gs pos="100000">
                <a:srgbClr val="ebf6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年时，和爸爸妈妈一起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节童谣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2532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3"/>
          <p:cNvSpPr/>
          <p:nvPr/>
        </p:nvSpPr>
        <p:spPr>
          <a:xfrm>
            <a:off x="3132000" y="971640"/>
            <a:ext cx="3564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  老师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工厂  工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医院  医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军队  军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2"/>
          <a:stretch/>
        </p:blipFill>
        <p:spPr>
          <a:xfrm>
            <a:off x="108000" y="298440"/>
            <a:ext cx="1401840" cy="14018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"/>
          <p:cNvSpPr/>
          <p:nvPr/>
        </p:nvSpPr>
        <p:spPr>
          <a:xfrm>
            <a:off x="1509840" y="836640"/>
            <a:ext cx="36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趣味识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云形标注 1"/>
          <p:cNvSpPr/>
          <p:nvPr/>
        </p:nvSpPr>
        <p:spPr>
          <a:xfrm>
            <a:off x="331920" y="6840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认识这些字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3"/>
          <p:cNvGrpSpPr/>
          <p:nvPr/>
        </p:nvGrpSpPr>
        <p:grpSpPr>
          <a:xfrm>
            <a:off x="285840" y="2637000"/>
            <a:ext cx="7128360" cy="1675080"/>
            <a:chOff x="285840" y="2637000"/>
            <a:chExt cx="7128360" cy="1675080"/>
          </a:xfrm>
        </p:grpSpPr>
        <p:grpSp>
          <p:nvGrpSpPr>
            <p:cNvPr id="54" name="Group 4"/>
            <p:cNvGrpSpPr/>
            <p:nvPr/>
          </p:nvGrpSpPr>
          <p:grpSpPr>
            <a:xfrm>
              <a:off x="2003040" y="2748240"/>
              <a:ext cx="1903320" cy="1563840"/>
              <a:chOff x="2003040" y="2748240"/>
              <a:chExt cx="1903320" cy="1563840"/>
            </a:xfrm>
          </p:grpSpPr>
          <p:grpSp>
            <p:nvGrpSpPr>
              <p:cNvPr id="55" name="Group 5"/>
              <p:cNvGrpSpPr/>
              <p:nvPr/>
            </p:nvGrpSpPr>
            <p:grpSpPr>
              <a:xfrm>
                <a:off x="2003040" y="2748240"/>
                <a:ext cx="1752480" cy="1526760"/>
                <a:chOff x="2003040" y="2748240"/>
                <a:chExt cx="1752480" cy="1526760"/>
              </a:xfrm>
            </p:grpSpPr>
            <p:sp>
              <p:nvSpPr>
                <p:cNvPr id="56" name="Rectangle 6"/>
                <p:cNvSpPr/>
                <p:nvPr/>
              </p:nvSpPr>
              <p:spPr>
                <a:xfrm>
                  <a:off x="2003040" y="278676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7"/>
                <p:cNvSpPr/>
                <p:nvPr/>
              </p:nvSpPr>
              <p:spPr>
                <a:xfrm>
                  <a:off x="2885760" y="274824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Line 8"/>
                <p:cNvSpPr/>
                <p:nvPr/>
              </p:nvSpPr>
              <p:spPr>
                <a:xfrm>
                  <a:off x="2016360" y="34927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" name="Text Box 9"/>
              <p:cNvSpPr/>
              <p:nvPr/>
            </p:nvSpPr>
            <p:spPr>
              <a:xfrm>
                <a:off x="2166120" y="275508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厂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0"/>
            <p:cNvGrpSpPr/>
            <p:nvPr/>
          </p:nvGrpSpPr>
          <p:grpSpPr>
            <a:xfrm>
              <a:off x="285840" y="2637000"/>
              <a:ext cx="1910520" cy="1621080"/>
              <a:chOff x="285840" y="2637000"/>
              <a:chExt cx="1910520" cy="1621080"/>
            </a:xfrm>
          </p:grpSpPr>
          <p:grpSp>
            <p:nvGrpSpPr>
              <p:cNvPr id="61" name="Group 11"/>
              <p:cNvGrpSpPr/>
              <p:nvPr/>
            </p:nvGrpSpPr>
            <p:grpSpPr>
              <a:xfrm>
                <a:off x="285840" y="2734560"/>
                <a:ext cx="1739160" cy="1523520"/>
                <a:chOff x="285840" y="2734560"/>
                <a:chExt cx="1739160" cy="1523520"/>
              </a:xfrm>
            </p:grpSpPr>
            <p:sp>
              <p:nvSpPr>
                <p:cNvPr id="62" name="Rectangle 12"/>
                <p:cNvSpPr/>
                <p:nvPr/>
              </p:nvSpPr>
              <p:spPr>
                <a:xfrm>
                  <a:off x="285840" y="277308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Line 13"/>
                <p:cNvSpPr/>
                <p:nvPr/>
              </p:nvSpPr>
              <p:spPr>
                <a:xfrm>
                  <a:off x="115524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4"/>
                <p:cNvSpPr/>
                <p:nvPr/>
              </p:nvSpPr>
              <p:spPr>
                <a:xfrm>
                  <a:off x="285840" y="347724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Text Box 15"/>
              <p:cNvSpPr/>
              <p:nvPr/>
            </p:nvSpPr>
            <p:spPr>
              <a:xfrm>
                <a:off x="456480" y="263700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工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16"/>
            <p:cNvGrpSpPr/>
            <p:nvPr/>
          </p:nvGrpSpPr>
          <p:grpSpPr>
            <a:xfrm>
              <a:off x="3715200" y="2637000"/>
              <a:ext cx="1877760" cy="1621080"/>
              <a:chOff x="3715200" y="2637000"/>
              <a:chExt cx="1877760" cy="1621080"/>
            </a:xfrm>
          </p:grpSpPr>
          <p:grpSp>
            <p:nvGrpSpPr>
              <p:cNvPr id="67" name="Group 17"/>
              <p:cNvGrpSpPr/>
              <p:nvPr/>
            </p:nvGrpSpPr>
            <p:grpSpPr>
              <a:xfrm>
                <a:off x="3715200" y="2734560"/>
                <a:ext cx="1773360" cy="1523520"/>
                <a:chOff x="3715200" y="2734560"/>
                <a:chExt cx="1773360" cy="1523520"/>
              </a:xfrm>
            </p:grpSpPr>
            <p:sp>
              <p:nvSpPr>
                <p:cNvPr id="68" name="Rectangle 18"/>
                <p:cNvSpPr/>
                <p:nvPr/>
              </p:nvSpPr>
              <p:spPr>
                <a:xfrm>
                  <a:off x="3715200" y="2773080"/>
                  <a:ext cx="174168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Line 19"/>
                <p:cNvSpPr/>
                <p:nvPr/>
              </p:nvSpPr>
              <p:spPr>
                <a:xfrm>
                  <a:off x="4617720" y="27345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20"/>
                <p:cNvSpPr/>
                <p:nvPr/>
              </p:nvSpPr>
              <p:spPr>
                <a:xfrm>
                  <a:off x="3746880" y="3477240"/>
                  <a:ext cx="17416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Text Box 21"/>
              <p:cNvSpPr/>
              <p:nvPr/>
            </p:nvSpPr>
            <p:spPr>
              <a:xfrm>
                <a:off x="3852000" y="263700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医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22"/>
            <p:cNvGrpSpPr/>
            <p:nvPr/>
          </p:nvGrpSpPr>
          <p:grpSpPr>
            <a:xfrm>
              <a:off x="5429160" y="2640240"/>
              <a:ext cx="1985040" cy="1624320"/>
              <a:chOff x="5429160" y="2640240"/>
              <a:chExt cx="1985040" cy="1624320"/>
            </a:xfrm>
          </p:grpSpPr>
          <p:grpSp>
            <p:nvGrpSpPr>
              <p:cNvPr id="73" name="Group 23"/>
              <p:cNvGrpSpPr/>
              <p:nvPr/>
            </p:nvGrpSpPr>
            <p:grpSpPr>
              <a:xfrm>
                <a:off x="5429160" y="2733120"/>
                <a:ext cx="1774080" cy="1531440"/>
                <a:chOff x="5429160" y="2733120"/>
                <a:chExt cx="1774080" cy="1531440"/>
              </a:xfrm>
            </p:grpSpPr>
            <p:sp>
              <p:nvSpPr>
                <p:cNvPr id="74" name="Rectangle 24"/>
                <p:cNvSpPr/>
                <p:nvPr/>
              </p:nvSpPr>
              <p:spPr>
                <a:xfrm>
                  <a:off x="5429160" y="277956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5"/>
                <p:cNvSpPr/>
                <p:nvPr/>
              </p:nvSpPr>
              <p:spPr>
                <a:xfrm>
                  <a:off x="6334200" y="27331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6"/>
                <p:cNvSpPr/>
                <p:nvPr/>
              </p:nvSpPr>
              <p:spPr>
                <a:xfrm>
                  <a:off x="5464800" y="347580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7"/>
              <p:cNvSpPr/>
              <p:nvPr/>
            </p:nvSpPr>
            <p:spPr>
              <a:xfrm>
                <a:off x="5672520" y="264024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院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"/>
          <p:cNvGrpSpPr/>
          <p:nvPr/>
        </p:nvGrpSpPr>
        <p:grpSpPr>
          <a:xfrm>
            <a:off x="2127240" y="-1481040"/>
            <a:ext cx="6793200" cy="5764680"/>
            <a:chOff x="2127240" y="-1481040"/>
            <a:chExt cx="6793200" cy="5764680"/>
          </a:xfrm>
        </p:grpSpPr>
        <p:sp>
          <p:nvSpPr>
            <p:cNvPr id="79" name="Line 8"/>
            <p:cNvSpPr/>
            <p:nvPr/>
          </p:nvSpPr>
          <p:spPr>
            <a:xfrm>
              <a:off x="2127240" y="-1481040"/>
              <a:ext cx="174132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1"/>
            <p:cNvGrpSpPr/>
            <p:nvPr/>
          </p:nvGrpSpPr>
          <p:grpSpPr>
            <a:xfrm>
              <a:off x="7156800" y="2797200"/>
              <a:ext cx="1763640" cy="1486440"/>
              <a:chOff x="7156800" y="2797200"/>
              <a:chExt cx="1763640" cy="1486440"/>
            </a:xfrm>
          </p:grpSpPr>
          <p:sp>
            <p:nvSpPr>
              <p:cNvPr id="81" name="Rectangle 12"/>
              <p:cNvSpPr/>
              <p:nvPr/>
            </p:nvSpPr>
            <p:spPr>
              <a:xfrm>
                <a:off x="7179120" y="2797200"/>
                <a:ext cx="1741320" cy="1486440"/>
              </a:xfrm>
              <a:prstGeom prst="rect">
                <a:avLst/>
              </a:prstGeom>
              <a:solidFill>
                <a:srgbClr val="ebf939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4"/>
              <p:cNvSpPr/>
              <p:nvPr/>
            </p:nvSpPr>
            <p:spPr>
              <a:xfrm>
                <a:off x="7156800" y="3505320"/>
                <a:ext cx="17413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Line 7"/>
          <p:cNvSpPr/>
          <p:nvPr/>
        </p:nvSpPr>
        <p:spPr>
          <a:xfrm>
            <a:off x="8048520" y="2782800"/>
            <a:ext cx="0" cy="148932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7284960" y="2664000"/>
            <a:ext cx="174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376200" y="2034720"/>
            <a:ext cx="86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ōng   chǎng    yī</a:t>
            </a:r>
            <a:r>
              <a:rPr b="0" lang="zh-CN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à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   shē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156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1755720" cy="143172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2741400" y="6922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4073040" y="2001960"/>
            <a:ext cx="3415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果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树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加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办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法</a:t>
            </a:r>
            <a:r>
              <a:rPr b="0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旁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两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en-US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 也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许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到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四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处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学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生</a:t>
            </a: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"/>
          <p:cNvSpPr/>
          <p:nvPr/>
        </p:nvSpPr>
        <p:spPr>
          <a:xfrm>
            <a:off x="468360" y="1125360"/>
            <a:ext cx="928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新年到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请同学们，为你的家人和朋友写一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祝福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media.teeqee.com/game/img/461/b9468b3413605d1b1a8b6e306987dae5.jpg"/>
          <p:cNvPicPr/>
          <p:nvPr/>
        </p:nvPicPr>
        <p:blipFill>
          <a:blip r:embed="rId2"/>
          <a:stretch/>
        </p:blipFill>
        <p:spPr>
          <a:xfrm>
            <a:off x="-20520" y="0"/>
            <a:ext cx="9337680" cy="7101000"/>
          </a:xfrm>
          <a:prstGeom prst="rect">
            <a:avLst/>
          </a:prstGeom>
          <a:ln w="0">
            <a:noFill/>
          </a:ln>
        </p:spPr>
      </p:pic>
      <p:sp>
        <p:nvSpPr>
          <p:cNvPr id="92" name="矩形 9218"/>
          <p:cNvSpPr/>
          <p:nvPr/>
        </p:nvSpPr>
        <p:spPr>
          <a:xfrm>
            <a:off x="584280" y="6597720"/>
            <a:ext cx="526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578f57897a5c62b3a5c27233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62120" y="114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诗诵读时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0246"/>
          <p:cNvSpPr/>
          <p:nvPr/>
        </p:nvSpPr>
        <p:spPr>
          <a:xfrm>
            <a:off x="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714680" y="357120"/>
            <a:ext cx="5473440" cy="5060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《</a:t>
            </a:r>
            <a:r>
              <a:rPr b="1" lang="zh-CN" sz="5400" spc="-1" strike="noStrike">
                <a:solidFill>
                  <a:srgbClr val="c00000"/>
                </a:solidFill>
                <a:latin typeface="Arial"/>
                <a:ea typeface="黑体"/>
              </a:rPr>
              <a:t>风</a:t>
            </a:r>
            <a:r>
              <a:rPr b="1" lang="en-US" sz="5400" spc="-1" strike="noStrike">
                <a:solidFill>
                  <a:srgbClr val="c00000"/>
                </a:solidFill>
                <a:latin typeface="Arial"/>
                <a:ea typeface="黑体"/>
              </a:rPr>
              <a:t>》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               （唐）李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解落三秋叶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能开二月花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过江千尺浪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入竹万竿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521460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李峤，唐朝著名的宫廷诗人，与杜审言、苏味道、崔融并称“文章四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http://www.earthspiral.jp/%E6%B8%85%E9%87%8C%20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7"/>
          <p:cNvSpPr/>
          <p:nvPr/>
        </p:nvSpPr>
        <p:spPr>
          <a:xfrm>
            <a:off x="0" y="0"/>
            <a:ext cx="9144000" cy="6813720"/>
          </a:xfrm>
          <a:prstGeom prst="rect">
            <a:avLst/>
          </a:prstGeom>
          <a:solidFill>
            <a:srgbClr val="ffffff">
              <a:alpha val="85000"/>
            </a:srgbClr>
          </a:solidFill>
          <a:ln w="12600">
            <a:solidFill>
              <a:srgbClr val="d9d9d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jiě   luò  nénɡ  lànɡ  zhú   ɡān   xi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解   落    能     浪    竹     竿    斜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56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